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0C5-90D0-4522-BB61-55B8E503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5C4-FED3-4B4B-A13D-50A17A9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0D2-E407-4E33-83F1-DCE7734B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7A2-42B2-4D0F-9810-103DF14E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FC6-A88B-41DE-8D10-7D42FDA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D3C-E978-4519-A096-22FBB40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BFF-18B0-4703-9CC3-27E78DBE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936-97DC-43C8-A0EB-234EC24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DEE-F4D9-4236-8281-4D073CA2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151-627D-4A8D-AE36-62FEEFA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0BC-680C-4885-92F4-2BB26235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775-5065-4769-A83C-DEE7C19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BC8-E2A6-4374-904F-596165107F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ersonaltepp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4502160" cy="44560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809640"/>
                <a:gridCol w="144144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0 – 7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itze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5 – 8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0 – 9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5 – 9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stücks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 – 1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 – 10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 Hofpa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0 – 1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5 – 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 – 1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spause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es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 –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– 1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ze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 – 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 – 1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5 – 16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 – 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ät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39"/>
          <p:cNvSpPr/>
          <p:nvPr/>
        </p:nvSpPr>
        <p:spPr>
          <a:xfrm>
            <a:off x="3540240" y="1606680"/>
            <a:ext cx="2736720" cy="3240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0"/>
          <p:cNvSpPr/>
          <p:nvPr/>
        </p:nvSpPr>
        <p:spPr>
          <a:xfrm>
            <a:off x="3533760" y="3102120"/>
            <a:ext cx="2736720" cy="29527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1"/>
          <p:cNvSpPr/>
          <p:nvPr/>
        </p:nvSpPr>
        <p:spPr>
          <a:xfrm>
            <a:off x="5148360" y="2060640"/>
            <a:ext cx="2376360" cy="2016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2"/>
          <p:cNvSpPr/>
          <p:nvPr/>
        </p:nvSpPr>
        <p:spPr>
          <a:xfrm>
            <a:off x="5148360" y="4076640"/>
            <a:ext cx="2376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-K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3"/>
          <p:cNvSpPr/>
          <p:nvPr/>
        </p:nvSpPr>
        <p:spPr>
          <a:xfrm>
            <a:off x="5148360" y="4653000"/>
            <a:ext cx="2376360" cy="288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saufgabenbe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4"/>
          <p:cNvSpPr/>
          <p:nvPr/>
        </p:nvSpPr>
        <p:spPr>
          <a:xfrm>
            <a:off x="5148360" y="4951440"/>
            <a:ext cx="2376360" cy="57456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 /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5"/>
          <p:cNvSpPr/>
          <p:nvPr/>
        </p:nvSpPr>
        <p:spPr>
          <a:xfrm>
            <a:off x="6012000" y="3789360"/>
            <a:ext cx="2520720" cy="1297080"/>
          </a:xfrm>
          <a:prstGeom prst="rect">
            <a:avLst/>
          </a:prstGeom>
          <a:solidFill>
            <a:srgbClr val="ffcc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 / Mit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6"/>
          <p:cNvSpPr/>
          <p:nvPr/>
        </p:nvSpPr>
        <p:spPr>
          <a:xfrm>
            <a:off x="6012000" y="4797360"/>
            <a:ext cx="2520720" cy="125748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21:51Z</dcterms:created>
  <dc:creator> </dc:creator>
  <dc:description/>
  <dc:language>en-US</dc:language>
  <cp:lastModifiedBy>Klaus Musch</cp:lastModifiedBy>
  <dcterms:modified xsi:type="dcterms:W3CDTF">2012-08-23T07:54:09Z</dcterms:modified>
  <cp:revision>5</cp:revision>
  <dc:subject/>
  <dc:title>Folie 1</dc:title>
</cp:coreProperties>
</file>