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2A3-1E40-4668-8C59-78B4E3B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9D8-DA24-4C8A-8961-7388C0FD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375-6DCD-4A59-BD3D-74C953B4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F67-E36D-4607-87C2-5D0B9480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154-BDD6-4658-BFB6-6FA3821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C1C-6BB3-40CE-A137-040D96C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C0F-1C85-406C-800A-FAA93CC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AC-0691-4960-BA4C-FEB086D3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967-A17D-4221-B818-B955912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842-D468-4028-A9D1-CDCB9AE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CAB-37A4-4535-9D70-01B556C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3E-3DE8-4E1D-9FF6-6A65DB7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803-51A3-4C9E-B134-03C69AE75A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ersonaltepp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4502160" cy="44560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809640"/>
                <a:gridCol w="144144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0 – 7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itze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5 – 8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0 – 9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5 – 9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stücks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 – 1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 – 10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 Hofpa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0 – 1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5 – 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 – 1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spause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es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 –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– 1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ze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 – 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 – 1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5 – 16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 – 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ät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39"/>
          <p:cNvSpPr/>
          <p:nvPr/>
        </p:nvSpPr>
        <p:spPr>
          <a:xfrm>
            <a:off x="3540240" y="1606680"/>
            <a:ext cx="2736720" cy="3240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0"/>
          <p:cNvSpPr/>
          <p:nvPr/>
        </p:nvSpPr>
        <p:spPr>
          <a:xfrm>
            <a:off x="3533760" y="3102120"/>
            <a:ext cx="2736720" cy="29527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1"/>
          <p:cNvSpPr/>
          <p:nvPr/>
        </p:nvSpPr>
        <p:spPr>
          <a:xfrm>
            <a:off x="5148360" y="2060640"/>
            <a:ext cx="2376360" cy="2016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2"/>
          <p:cNvSpPr/>
          <p:nvPr/>
        </p:nvSpPr>
        <p:spPr>
          <a:xfrm>
            <a:off x="5148360" y="4076640"/>
            <a:ext cx="2376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-K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3"/>
          <p:cNvSpPr/>
          <p:nvPr/>
        </p:nvSpPr>
        <p:spPr>
          <a:xfrm>
            <a:off x="5148360" y="4653000"/>
            <a:ext cx="2376360" cy="288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saufgabenbe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4"/>
          <p:cNvSpPr/>
          <p:nvPr/>
        </p:nvSpPr>
        <p:spPr>
          <a:xfrm>
            <a:off x="5148360" y="4951440"/>
            <a:ext cx="2376360" cy="57456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 /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5"/>
          <p:cNvSpPr/>
          <p:nvPr/>
        </p:nvSpPr>
        <p:spPr>
          <a:xfrm>
            <a:off x="6012000" y="3789360"/>
            <a:ext cx="2520720" cy="1297080"/>
          </a:xfrm>
          <a:prstGeom prst="rect">
            <a:avLst/>
          </a:prstGeom>
          <a:solidFill>
            <a:srgbClr val="ffcc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 / Mit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6"/>
          <p:cNvSpPr/>
          <p:nvPr/>
        </p:nvSpPr>
        <p:spPr>
          <a:xfrm>
            <a:off x="6012000" y="4797360"/>
            <a:ext cx="2520720" cy="125748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21:51Z</dcterms:created>
  <dc:creator> </dc:creator>
  <dc:description/>
  <dc:language>en-US</dc:language>
  <cp:lastModifiedBy>Klaus Musch</cp:lastModifiedBy>
  <dcterms:modified xsi:type="dcterms:W3CDTF">2012-08-23T07:54:09Z</dcterms:modified>
  <cp:revision>5</cp:revision>
  <dc:subject/>
  <dc:title>Folie 1</dc:title>
</cp:coreProperties>
</file>